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1571-5E22-4AD3-9232-9CBAA602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BAB4-5484-45E8-939A-FDCF165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CAB9-C06E-4A37-BECC-EA8FE4C7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4E7A-3730-49F4-946D-2D885B5A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7D5A-0F5B-4FFF-802C-B3459B91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D94-7858-49CA-AEA7-CB6C510A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ACC3-2D39-438F-B98D-C0C7769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7D2-54F4-4181-812E-D200609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C40-AE1A-4B93-BDBC-A2D7A95B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DFA-41E9-45B9-BC6A-9D85465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B9B-AF1A-49B6-AA3A-91FFF8D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B2D-4054-4A69-9CDD-8897A53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F63-0F08-4FAB-B4E1-34344BD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4BD-AF20-41C5-966B-8E78F87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45DE-F76E-4399-97FC-A5750D79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957A-B30B-4FAB-A9E4-D42A8E48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65A5-BD3D-4D26-BB89-73599DAC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1EEC-0655-4400-9915-17E1CD7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B604-367E-4BAC-9A0B-0B4148D7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DC0A-1117-40E4-A454-7B3660E0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5507-D51D-4108-B809-68315C8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9706-B344-4427-AC67-83F1FAC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0A1D-0B4E-458A-99EA-15CAC46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9763-BFCF-4684-B588-68A0AE4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C42-67CD-4ED8-A024-BA336A2631E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E50-AADB-4F9B-8EBB-96D5700A3DB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fdef6"/>
                </a:solidFill>
                <a:uFillTx/>
                <a:latin typeface="Arial"/>
              </a:rPr>
              <a:t>Korrosion (allg. Rost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9200" cy="464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el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stehend aus ANODE und KATHODE in Berührung mit einer leitenden Flüssig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Edlere Werksto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Kathode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unedler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Anode, in einem Elektrolyt führt zu einer anodischen Auflösung (Oxidation) des unedleren durch Elektronenabga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potenzial ist proportional zur Höhe der elektrochem.Span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ildung von Anode und Kath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 unterschiedliche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 Oberflächen (Bildung von Lokalelemen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ügebestandteile heterogener Legier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schiedliche Spannungs- und Verformungsbereiche (gekantetes Ble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Lokalelem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26800" y="2162880"/>
            <a:ext cx="50922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lektrochemische Sauerstoffkorrosion feuchter Stahloberfläc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37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08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verschiedene Werkstoff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1825560"/>
            <a:ext cx="79675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influssgrößen der Kontaktkorrosionsgefahr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zialdiffer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zusammensetz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ächenverhältnis des edleren zum unedleren 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malspannungsreihe liefert für die Praxis keine brauchbaren Ergebni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sche Spannungsreihen als Hi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lektrische Trennung wäre optim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wirken von Sauerstoff; Salzen; Gasen; Säuren auf die Metalloberfläche, wobei eine chemische Verbindung entste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bei spielt der Sauerstoff eine wesentliche Rolle, der mit den Metallen dass Metalloxid bild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 typisches Beispiel für chemische Korrosion ist das Zundern von Stahl. Bei hoher Temperatur reagiert der Luftsauerstoff unmittelbar mit dem Eisen, es bildet sich Eisenox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Zundern von St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418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Metallphysikalische Rea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 Art der Reaktion tritt nur sehr selten auf, z.B. bei der ,,Zinnpest". Hierbei zerfällt das Zinn bei sehr tiefen Temperaturen durch Gitterumwandl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ichmäßige Flächen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den- und Loch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lt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nungsriss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ktive 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lied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rtschaftlicher Schaden durch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griff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arten (chemische Vorgä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 und ihr Erscheinungsb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ssiv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schu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uch zur elektrochem.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5784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9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41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712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4068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487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ierung der Metalloberfläche durch Bildung einer haltbaren, dichten Oxidsch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Ch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p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Oxidschicht bei Stahl locker und porös,  Metall keinen Schutz. Korrodiert bis zur vollständigen Auflös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wahl geeigneter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gerechte Konstru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taktkorrosionsstellen sind auszusc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palte sind zu vermei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öglichst glatte Oberflächen sind zu schaffen, z.B. durch Abschleifen oder Pol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schichten auf Eisenwerkstof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todischer Korrosionsschutz (mit Opferanode oder Fremdstroma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gerechte Konstru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58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schicht auf Stah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2946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Wirtschaftlicher Schaden durch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% des Bruttosozialproduktes eines Landes gehen verlore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Kosteneinsparung möglich, wenn Kenntnisse über Korrosion und Korrosionsschutz technisch besser genutzt würd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chutzmetallschich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zu schützende Metall muss edler als das Überzugsmetall se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Verletzung der Schicht löst sich das Schutzmetall au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berzugmetall ist edler als das zu schützende Met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un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Katodischer 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wußte Erzeugung eines Korrosionselem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 schützende Metall ist die Kathode, das zu opfernde Metall ist die Anode, es muss unedler als der Kathodenwerkstoff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Opferano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vanischer Vorg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undärer Korrosions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332000" y="2924280"/>
            <a:ext cx="66247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Fremdstro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olytischer Vorg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k. 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stellen der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rderl. Schutz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romdich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Versuch zur elektrochemischen 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ezu gesättigte Salzwasserlösung (Salzgehalt ca. 35 % hohe Leitfähigkei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chiedenartige Korrosionselemente in der Salzlös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gabe zur 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definition DIN 50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riff und Zerstörung metallischer Werkstoffe durch Reaktionen mit Wirkstoffen aus der Umgebung. (lat. corrodere = zernag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produkt (z.B. Rost) kann löslich, unlöslich oder auch festhaftend s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t chem. FeO(OH)  Eisenoxidhydroxi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Durch Korrosion geht Werkstoff verlore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wächung des Querschni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Verletzung der Oberflä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s Korrosionsprodukt hat ein größeres Volu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Von einem Korrosionsschaden spricht man jedoch erst, wenn die Funktion beeinträchtigt ist.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ispiele für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ar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lektrochemisch (häufig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tallphysikalisch (selten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Erosionskorrosion durch Festkörper-  teilch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 Gebrauchsmetalle befinden sich im unstabilen Zu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 wollen wieder in ihre Oxide oder Sulfide aus denen sie gewonnen wurden zurückke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reben des Metalls seine Ionen in die Lösung zu se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 alle Korrosionsvorgänge   sind elektrochemischer Natur, ihr Mechanismus entspricht einem galvanischen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chtigkeitsfilm als Elektrolyt, Handschweiß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reste in Spal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5878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8:09Z</dcterms:created>
  <dc:creator>M</dc:creator>
  <dc:description/>
  <dc:language>en-US</dc:language>
  <cp:lastModifiedBy>BF20-04</cp:lastModifiedBy>
  <dcterms:modified xsi:type="dcterms:W3CDTF">2005-12-26T18:46:51Z</dcterms:modified>
  <cp:revision>77</cp:revision>
  <dc:subject/>
  <dc:title>Korrosion</dc:title>
</cp:coreProperties>
</file>